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F0F3-8BBB-4907-9DA7-1E42A9C7C3F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ati che analizzeremo sono inerenti il flusso e gli avviamenti al lavoro nella Provincia di Torino, a partire dal 2005.</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sserviamo un elevato tasso di femminilizzazione per gli avviamenti dei cittadini comunitari-non italiani. Il tasso di femminilizzazione italiano è del 51,44% (forte incidenza in valore assoluto degli avviamenti italiani sul totale degli avviamenti). I numeri sembrano incoraggianti ma possono essere apparenti. Per una lettura attendibile sarebbe opportuno raffrontare questi risultati ai paralleli tassi di immigrazione, verificando che non siano avvenuti dei rientri nei Paesi di origine, osservare e quantificare il peso dell’eventuale crescita del lavoro ne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tabella dei cittadini non comunitari presenta un tasso di femminilizzazione bassissimo nel suo insieme con un dato medio del 38,79%. Si notano forti differenze a seconda della cittadinanza, come evidenziato in giallo. Si precisa che per poter interpretare correttamente questo dato, occorrerebbe una comparazione col numero complessivo di immigrati, distribuiti per genere, e per provenienz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osa si osservano le tipologie di lavoro che presentano maggiore segregazione femminile mentre in azzurro quella maschile. Sarebbe interessante verificare i settori dove predominano le diverse tipologie di lavoro in modo da poter fare un’analisi più complet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osserviamo gli iscritti alla mobilità nel 1° semestre del 2008, in rapporto al 1° semestre del 2007, non rileviamo cambiamenti significativi nel dato generale generale. Si rileva, per le donne iscritte alla mobilità,un aumento della mobilità indennizzata e una riduzione di quella non indennizza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sezione della Provincia di Torino vede il lavoro realizzato sino ad oggi sul Mercato del lavoro con le pubblicazioni realizzate e alcune tabelle elaborate dall’ufficio Statistiche del Servizio Politiche per il lavoro e l’orient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iamo che le fasce di età 25-29 anni, 30-34 anni e 35-39 anni sono quelle dove si contrano maggiormente i tassi di femminilizzazione per le donne disponibili al lavoro. Per queste fasce di età osserviamo che i tassi si riducono progressivamente dal 2005 al 2006 e infine nel 2007. I tassi di femminilizzazione in generale aumentano di ben 4 punti dal 2005 al 2007, con un incremento maggiore nel passaggio dal 2006 al 2007. Il forte incremento si registra per i giovanissimi dal 2006 al 2007 con una inversione di tendenza rispetto alla oscillazione che registra il 2006 sul 2005. Per le tre ultime fasce, quelle più avanti negli anni, osserviamo un notevole incremento del flusso di disponibilità al lavoro a partire dai 40 anni fino ad arrivare a un forte scostamento per le donne oltre i 50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nche per i disabili disponibili al lavoro, notiamo che i tassi di femminilizzazione in generale aumentano ma in modo più sensibile rispetto alla tabella precenti. Le donne disabili aumentano in modo progressivo la disponibilità al lavoro, soprattutto nelle fasce di età che vanno oltre i 40 anni e in particolar modo le giovani fino a 34 anni. Riducono la disponibilità al lavoro le donne che sono comprese tra i 25 e i 39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per i disabili disponibili al lavoro, notiamo che i tassi di femminilizzazione in generale aumentano ma in modo più sensibile rispetto alle tabelle precedenti. Le donne disabili aumentano in modo progressivo la disponibilità al lavoro, soprattutto nelle fasce di età che vanno oltre i 40 anni e in particolar modo le giovani fino a 34 anni. Riducono la disponibilità al lavoro le donne che sono comprese tra i 25 e i 39 an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compariamo il flusso della disponibilità al lavoro del triennio 2005-2006-2007, osserviamo che i tassi di femminilizzazione sono scesi dal 52% del 2005 al 50% nel 2006 e dal 50% nel 2006 al  47% nel 2007. Vi è una riduzione di ben 5 punti. L’incidenza dell’occupazione femminile, in rapporto al numero dei maschi occupati, ha subito anch’essa una riduzione nel triennio, passando da 110 donne occupate ogni 100 maschi nel 2005 a 90 donne occupate ogni 100 maschi nel 2007, in totale nel triennio vi è una riduzione di occupazione per ben 20 donne in rapporto a 100 maschi occupati. Nel 2005 vediamo 110 donne avviate al lavoro, nel 2006 se ne registrano 99 (una perdita di ben 11 punti), nel 2007, 90 donne con una perdita di 9 avviamenti femminili sul 2006 e una riduzione secca di ben 20 avviamenti rispetto al 2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osserviamo le donne immigrate nella Provincia di Torino, registriamo il più elevato tasso di femminilizzazione per le donne disponibili al lavoro provenienti dal Perù e dal Brasile. Seguono le Nigeriane, le Moldave e le Ecuadoriane. All’ultimo posto, le Cinesi. Queste cittadinanze superano considerevolmente il 50% delle disponibilità al lavoro sul totale. Su 100 maschi stranieri che cercano lavoro, abbiamo 222 donne brasiliane, 220 peruviane, 188 nigeriane. Sono minoritarie le egiziane, 20 donne su 100 uomini disponibili al lavoro, seguite dalle senegalesi e dalle donne tunis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ediamo aumentare in generale il tasso di femminilizzazione degli avviamenti che dal 47,09% del 2005 giunge al 50,19% del 2007. I tassi di femminilizzazione crescono sia per il lavoro a tempo determinato che per quello a tempo indeterminato. In generale se confrontiamo quanti avviamenti femminili si osservano rispetto a quelli maschili, constatiamo che ogni 100 uomini avviati al lavoro, vi sono in relazione 100,50 avviamenti femminili nel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dati della Banca regionale MdL sono relativamente confrontabili nel tempo, in quanto negli ultimi anni è stato introdotto il sistema di Comunicazioni on-line che ha visto aumentare notevolmente la registrazione, soprattutto da marzo 2007, anno in cui nella Banca dati cominciano a essere archiviati gli andamenti occupazionali di tutta la Pubblica Amministrazione (escluse le Forze di Polizia, l’Esercito) che prima non erano presentt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iallo sono evidenziati i settori prevalenti per le presenze femminili in ogni CPI, così come nel to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zurro sono riportato i settori con tasso di femminilizzazione più basso (segregazione maschile), mentre in rosa quelli più elevati (segregazione femmin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settore prevalente, senza la distinzione di genere, risulta essere quello dei Servizi alle Imprese che resta prevalente anche per le donne. Per gli uomini invece risulta prevalente l’occupabilità nel settore dell’industria metalmeccanic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681AC-46D2-4A69-B09A-3C8C666E8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0B01E-B4D8-4AB7-B3E1-7B555DB51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8B6D1-2712-4F7A-BA2E-E0A710B0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CB165-C9FD-4E08-B406-EDE728F30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D17D-D359-4647-965E-22E7BB46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4F2E-2534-44AD-8264-D12B5715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CCA0C-6069-432A-BB80-F4279C24F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AB28-DB96-4906-B8FF-0A88A383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8F38-0345-4AF0-A541-A970862D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B907-81DE-4BBD-91D5-FDFC1AED9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289A-F55D-4B5E-8BD7-FF2E11420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39726-5718-4763-AC85-65C7BD3C8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FC0A-AF98-4412-968D-ED7ECD61E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provincia.torino.it/sportello-lavoro/centri_impiego/pubblicazioni/mercato"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19320" y="457200"/>
            <a:ext cx="6464160" cy="3895560"/>
          </a:xfrm>
          <a:prstGeom prst="rect">
            <a:avLst/>
          </a:prstGeom>
          <a:ln w="0">
            <a:noFill/>
          </a:ln>
        </p:spPr>
      </p:pic>
      <p:sp>
        <p:nvSpPr>
          <p:cNvPr id="49" name=""/>
          <p:cNvSpPr/>
          <p:nvPr/>
        </p:nvSpPr>
        <p:spPr>
          <a:xfrm>
            <a:off x="-8640" y="4800600"/>
            <a:ext cx="921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i estratti ed elaborati a cura dell'Ufficio Statistiche dell'Osservatorio Mercato del Lavor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izio NC2 - Politiche per il lavoro e l'orientamento - Provincia di Tori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2007 suddivisi per Cittadinanza</a:t>
            </a:r>
            <a:endParaRPr b="0" lang="en-US" sz="1600" spc="-1" strike="noStrike">
              <a:solidFill>
                <a:srgbClr val="000000"/>
              </a:solidFill>
              <a:latin typeface="Times New Roman"/>
            </a:endParaRPr>
          </a:p>
        </p:txBody>
      </p:sp>
      <p:graphicFrame>
        <p:nvGraphicFramePr>
          <p:cNvPr id="74" name=""/>
          <p:cNvGraphicFramePr/>
          <p:nvPr/>
        </p:nvGraphicFramePr>
        <p:xfrm>
          <a:off x="235080" y="2133720"/>
          <a:ext cx="8885160" cy="3833640"/>
        </p:xfrm>
        <a:graphic>
          <a:graphicData uri="http://schemas.openxmlformats.org/presentationml/2006/ole">
            <p:oleObj progId="Excel.Sheet.12" r:id="rId1" spid="">
              <p:embed/>
              <p:pic>
                <p:nvPicPr>
                  <p:cNvPr id="75" name="" descr=""/>
                  <p:cNvPicPr/>
                  <p:nvPr/>
                </p:nvPicPr>
                <p:blipFill>
                  <a:blip r:embed="rId2"/>
                  <a:stretch/>
                </p:blipFill>
                <p:spPr>
                  <a:xfrm>
                    <a:off x="235080" y="2133720"/>
                    <a:ext cx="8885160" cy="38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Arial"/>
              </a:rPr>
              <a:t>Avviamenti al lavoro Provincia di Torino anno 2007 suddivisione per tipo lavoro,genere</a:t>
            </a:r>
            <a:br>
              <a:rPr sz="1600"/>
            </a:br>
            <a:endParaRPr b="0" lang="en-US" sz="1600" spc="-1" strike="noStrike">
              <a:solidFill>
                <a:srgbClr val="000000"/>
              </a:solidFill>
              <a:latin typeface="Times New Roman"/>
            </a:endParaRPr>
          </a:p>
        </p:txBody>
      </p:sp>
      <p:graphicFrame>
        <p:nvGraphicFramePr>
          <p:cNvPr id="77" name=""/>
          <p:cNvGraphicFramePr/>
          <p:nvPr/>
        </p:nvGraphicFramePr>
        <p:xfrm>
          <a:off x="304920" y="990720"/>
          <a:ext cx="8458200" cy="4306680"/>
        </p:xfrm>
        <a:graphic>
          <a:graphicData uri="http://schemas.openxmlformats.org/presentationml/2006/ole">
            <p:oleObj progId="Excel.Sheet.12" r:id="rId1" spid="">
              <p:embed/>
              <p:pic>
                <p:nvPicPr>
                  <p:cNvPr id="78" name="" descr=""/>
                  <p:cNvPicPr/>
                  <p:nvPr/>
                </p:nvPicPr>
                <p:blipFill>
                  <a:blip r:embed="rId2"/>
                  <a:stretch/>
                </p:blipFill>
                <p:spPr>
                  <a:xfrm>
                    <a:off x="304920" y="990720"/>
                    <a:ext cx="8458200" cy="43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I MOBILITA’ DEL 2008 </a:t>
            </a:r>
            <a:endParaRPr b="0" lang="en-US" sz="4400" spc="-1" strike="noStrike">
              <a:solidFill>
                <a:srgbClr val="000000"/>
              </a:solidFill>
              <a:latin typeface="Times New Roman"/>
            </a:endParaRPr>
          </a:p>
        </p:txBody>
      </p:sp>
      <p:graphicFrame>
        <p:nvGraphicFramePr>
          <p:cNvPr id="80" name=""/>
          <p:cNvGraphicFramePr/>
          <p:nvPr/>
        </p:nvGraphicFramePr>
        <p:xfrm>
          <a:off x="684360" y="1700280"/>
          <a:ext cx="7773480" cy="4329000"/>
        </p:xfrm>
        <a:graphic>
          <a:graphicData uri="http://schemas.openxmlformats.org/drawingml/2006/table">
            <a:tbl>
              <a:tblPr/>
              <a:tblGrid>
                <a:gridCol w="1960920"/>
                <a:gridCol w="1035000"/>
                <a:gridCol w="479520"/>
                <a:gridCol w="481320"/>
                <a:gridCol w="480960"/>
                <a:gridCol w="479520"/>
                <a:gridCol w="480960"/>
                <a:gridCol w="479880"/>
                <a:gridCol w="631800"/>
                <a:gridCol w="631800"/>
                <a:gridCol w="631800"/>
              </a:tblGrid>
              <a:tr h="670320">
                <a:tc gridSpan="8">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FFRONTO LAVORATORI MESSI IN MOBILITA' DA AZIENDE UBICATE NELLA PROVINCIA DI TORINO. RAFFRONTO TRA IL 1° SEMESTRE 2008 E IL 1° SEMESTRE 20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MPARAZIONE % 2008 SUL 200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5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Sem.20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Sem.200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8 sul 200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0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po Lista Mobilità</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scia_Età</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t>
                      </a:r>
                      <a:endParaRPr b="0" lang="en-US" sz="1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solidFill>
                      <a:srgbClr val="ff99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endParaRPr b="0" lang="en-US" sz="10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t>
                      </a:r>
                      <a:endParaRPr b="0" lang="en-US" sz="1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r>
              <a:tr h="31248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ITA' L.223/91, indennizzata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4</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3</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77</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0</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28</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458</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3</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71</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13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2</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7</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5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ea typeface="Arial"/>
                        </a:rPr>
                        <a:t>1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1248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ITA' L.236/93, non indennizz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3</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23</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66</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6</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4</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70</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311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3</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4</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57</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68</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3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87</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23</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6</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7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38</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31392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o 50 anni</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17</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26</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743</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46</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82</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928</a:t>
                      </a:r>
                      <a:endParaRPr b="0" lang="en-US" sz="1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ltre i 50 anni</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8</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3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61</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39</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8</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854</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782</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24</a:t>
                      </a:r>
                      <a:endParaRPr b="0" lang="en-US" sz="1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4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67</a:t>
                      </a:r>
                      <a:endParaRPr b="0" lang="en-US" sz="10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ea typeface="Times New Roman"/>
              </a:rPr>
              <a:t>PROGETTI DI GENERE </a:t>
            </a:r>
            <a:br>
              <a:rPr sz="4400"/>
            </a:br>
            <a:r>
              <a:rPr b="1" lang="en-US" sz="4400" spc="-1" strike="noStrike">
                <a:solidFill>
                  <a:srgbClr val="800000"/>
                </a:solidFill>
                <a:latin typeface="Times New Roman"/>
                <a:ea typeface="Times New Roman"/>
              </a:rPr>
              <a:t>SVOLTI DAL COORDINAMENTO DEI CPI PROVINCIA DI TORI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4114800"/>
            <a:ext cx="84582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supporta le persone</a:t>
            </a:r>
            <a:r>
              <a:rPr b="0" lang="it-IT" sz="1400" spc="-1" strike="noStrike">
                <a:solidFill>
                  <a:srgbClr val="000000"/>
                </a:solidFill>
                <a:latin typeface="Times New Roman"/>
              </a:rPr>
              <a:t> tenendo conto del complesso intreccio tra problematiche familiari, sociali e lavorative che condizionano il rapporto delle donne col m.d.l.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è </a:t>
            </a:r>
            <a:r>
              <a:rPr b="1" lang="it-IT" sz="1400" spc="-1" strike="noStrike">
                <a:solidFill>
                  <a:srgbClr val="000000"/>
                </a:solidFill>
                <a:latin typeface="Times New Roman"/>
              </a:rPr>
              <a:t>sensore delle problematiche del territorio</a:t>
            </a:r>
            <a:r>
              <a:rPr b="0" lang="it-IT" sz="1400" spc="-1" strike="noStrike">
                <a:solidFill>
                  <a:srgbClr val="000000"/>
                </a:solidFill>
                <a:latin typeface="Times New Roman"/>
              </a:rPr>
              <a:t>, anche, attraverso una mappatura delle risorse interne al servizio e dei servizi territoriali rivolti alle donn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punto di raccordo con le Consigliere di parità</a:t>
            </a:r>
            <a:r>
              <a:rPr b="0" lang="it-IT" sz="1400" spc="-1" strike="noStrike">
                <a:solidFill>
                  <a:srgbClr val="000000"/>
                </a:solidFill>
                <a:latin typeface="Times New Roman"/>
              </a:rPr>
              <a:t>, con i servizi per l’impiego, i servizi sociali e sanitari, le aziende, la formazione professionale (raccolta dati e informazioni, promozione di indagini e progetti).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conosce ed utilizza gli strumenti</a:t>
            </a:r>
            <a:r>
              <a:rPr b="0" lang="it-IT" sz="1400" spc="-1" strike="noStrike">
                <a:solidFill>
                  <a:srgbClr val="000000"/>
                </a:solidFill>
                <a:latin typeface="Times New Roman"/>
              </a:rPr>
              <a:t> prodotti dalle politiche per le P.O.: (leggi, finanziamenti, sportelli, corsi di formazioni, voucher, agevolazioni, ecc.).</a:t>
            </a:r>
            <a:endParaRPr b="0" lang="en-US" sz="1400" spc="-1" strike="noStrike">
              <a:solidFill>
                <a:srgbClr val="000000"/>
              </a:solidFill>
              <a:latin typeface="Times New Roman"/>
            </a:endParaRPr>
          </a:p>
        </p:txBody>
      </p:sp>
      <p:sp>
        <p:nvSpPr>
          <p:cNvPr id="83" name=""/>
          <p:cNvSpPr/>
          <p:nvPr/>
        </p:nvSpPr>
        <p:spPr>
          <a:xfrm>
            <a:off x="533520" y="3352680"/>
            <a:ext cx="8076960" cy="4597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La referente di parità</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84" name=""/>
          <p:cNvSpPr/>
          <p:nvPr/>
        </p:nvSpPr>
        <p:spPr>
          <a:xfrm>
            <a:off x="457200" y="457200"/>
            <a:ext cx="7772400" cy="8254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Rete delle Referenti di parità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nei Centri per l’impiego</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85" name=""/>
          <p:cNvSpPr/>
          <p:nvPr/>
        </p:nvSpPr>
        <p:spPr>
          <a:xfrm>
            <a:off x="457200" y="1447920"/>
            <a:ext cx="82296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 2004 le referenti sono </a:t>
            </a:r>
            <a:r>
              <a:rPr b="1" lang="it-IT" sz="1800" spc="-1" strike="noStrike">
                <a:solidFill>
                  <a:srgbClr val="000000"/>
                </a:solidFill>
                <a:latin typeface="Times New Roman"/>
              </a:rPr>
              <a:t>20 </a:t>
            </a:r>
            <a:r>
              <a:rPr b="0" lang="it-IT" sz="1800" spc="-1" strike="noStrike">
                <a:solidFill>
                  <a:srgbClr val="000000"/>
                </a:solidFill>
                <a:latin typeface="Times New Roman"/>
              </a:rPr>
              <a:t>sono presenti nei CPI con la seguente distribuzione: </a:t>
            </a:r>
            <a:br>
              <a:rPr sz="1800"/>
            </a:br>
            <a:r>
              <a:rPr b="1" lang="it-IT" sz="1800" spc="-1" strike="noStrike">
                <a:solidFill>
                  <a:srgbClr val="000000"/>
                </a:solidFill>
                <a:latin typeface="Times New Roman"/>
              </a:rPr>
              <a:t>1</a:t>
            </a:r>
            <a:r>
              <a:rPr b="0" lang="it-IT" sz="1800" spc="-1" strike="noStrike">
                <a:solidFill>
                  <a:srgbClr val="000000"/>
                </a:solidFill>
                <a:latin typeface="Times New Roman"/>
              </a:rPr>
              <a:t> in ciascun centro per l’impiego della Provinc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 </a:t>
            </a:r>
            <a:r>
              <a:rPr b="0" lang="it-IT" sz="1800" spc="-1" strike="noStrike">
                <a:solidFill>
                  <a:srgbClr val="000000"/>
                </a:solidFill>
                <a:latin typeface="Times New Roman"/>
              </a:rPr>
              <a:t>presso il CpI di Torin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a:t>
            </a:r>
            <a:r>
              <a:rPr b="0" lang="it-IT" sz="1800" spc="-1" strike="noStrike">
                <a:solidFill>
                  <a:srgbClr val="000000"/>
                </a:solidFill>
                <a:latin typeface="Times New Roman"/>
              </a:rPr>
              <a:t> presso la sede provinciale del Servizio lavoro.</a:t>
            </a:r>
            <a:r>
              <a:rPr b="0" lang="it-IT"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no coordinate dall</a:t>
            </a:r>
            <a:r>
              <a:rPr b="1" lang="it-IT" sz="1600" spc="-1" strike="noStrike">
                <a:solidFill>
                  <a:srgbClr val="000000"/>
                </a:solidFill>
                <a:latin typeface="Times New Roman"/>
              </a:rPr>
              <a:t>’Unità Organizzativa Pari Opportunità </a:t>
            </a:r>
            <a:r>
              <a:rPr b="0" lang="it-IT" sz="1600" spc="-1" strike="noStrike">
                <a:solidFill>
                  <a:srgbClr val="000000"/>
                </a:solidFill>
                <a:latin typeface="Times New Roman"/>
              </a:rPr>
              <a:t>presso il Coordinamento CP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3733920"/>
            <a:ext cx="845820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Times New Roman"/>
              </a:rPr>
              <a:t>supporto relativo alla </a:t>
            </a:r>
            <a:r>
              <a:rPr b="1" lang="it-IT" sz="1400" spc="-1" strike="noStrike">
                <a:solidFill>
                  <a:srgbClr val="000000"/>
                </a:solidFill>
                <a:latin typeface="Times New Roman"/>
              </a:rPr>
              <a:t>segnalazione dei casi di discriminazione</a:t>
            </a:r>
            <a:r>
              <a:rPr b="0" lang="it-IT" sz="1400" spc="-1" strike="noStrike">
                <a:solidFill>
                  <a:srgbClr val="000000"/>
                </a:solidFill>
                <a:latin typeface="Times New Roman"/>
              </a:rPr>
              <a:t> rilevati dai CpI e per la conoscenza del ruolo Consigliera di Parità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gestione del progetto </a:t>
            </a:r>
            <a:r>
              <a:rPr b="1" lang="it-IT" sz="1400" spc="-1" strike="noStrike">
                <a:solidFill>
                  <a:srgbClr val="000000"/>
                </a:solidFill>
                <a:latin typeface="Times New Roman"/>
              </a:rPr>
              <a:t>voucher</a:t>
            </a:r>
            <a:r>
              <a:rPr b="0" lang="it-IT" sz="1400" spc="-1" strike="noStrike">
                <a:solidFill>
                  <a:srgbClr val="000000"/>
                </a:solidFill>
                <a:latin typeface="Times New Roman"/>
              </a:rPr>
              <a:t> che consiste nell’erogazione di contributi destinati a donne con persone in carico quali figli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roposta di </a:t>
            </a:r>
            <a:r>
              <a:rPr b="1" lang="it-IT" sz="1400" spc="-1" strike="noStrike">
                <a:solidFill>
                  <a:srgbClr val="000000"/>
                </a:solidFill>
                <a:latin typeface="Times New Roman"/>
              </a:rPr>
              <a:t>iniziative </a:t>
            </a:r>
            <a:r>
              <a:rPr b="0" lang="it-IT" sz="1400" spc="-1" strike="noStrike">
                <a:solidFill>
                  <a:srgbClr val="000000"/>
                </a:solidFill>
                <a:latin typeface="Times New Roman"/>
              </a:rPr>
              <a:t>volte a rafforzare le competenze specifiche delle donne disoccupate del loro territori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pporto per la diffusione della </a:t>
            </a:r>
            <a:r>
              <a:rPr b="1" lang="it-IT" sz="1400" spc="-1" strike="noStrike">
                <a:solidFill>
                  <a:srgbClr val="000000"/>
                </a:solidFill>
                <a:latin typeface="Times New Roman"/>
              </a:rPr>
              <a:t>campagna informativa “I nostri auguri tra opportunità  e diritti”</a:t>
            </a:r>
            <a:r>
              <a:rPr b="0"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 name=""/>
          <p:cNvSpPr/>
          <p:nvPr/>
        </p:nvSpPr>
        <p:spPr>
          <a:xfrm>
            <a:off x="457200" y="2971800"/>
            <a:ext cx="8077320" cy="5806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rete ha rappresentato un punto di vantaggio per l’integrazione delle politiche di pari opportunità rispetto al genere</a:t>
            </a:r>
            <a:endParaRPr b="0" lang="en-US" sz="1600" spc="-1" strike="noStrike">
              <a:solidFill>
                <a:srgbClr val="000000"/>
              </a:solidFill>
              <a:latin typeface="Times New Roman"/>
            </a:endParaRPr>
          </a:p>
        </p:txBody>
      </p:sp>
      <p:sp>
        <p:nvSpPr>
          <p:cNvPr id="88" name=""/>
          <p:cNvSpPr/>
          <p:nvPr/>
        </p:nvSpPr>
        <p:spPr>
          <a:xfrm>
            <a:off x="457200" y="457200"/>
            <a:ext cx="7772400" cy="58068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rete ha rappresentato un importante elemento innovativo nell’ambito dei servizi per l’impiego della Provincia di Torino</a:t>
            </a:r>
            <a:endParaRPr b="0" lang="en-US" sz="1600" spc="-1" strike="noStrike">
              <a:solidFill>
                <a:srgbClr val="000000"/>
              </a:solidFill>
              <a:latin typeface="Times New Roman"/>
            </a:endParaRPr>
          </a:p>
        </p:txBody>
      </p:sp>
      <p:sp>
        <p:nvSpPr>
          <p:cNvPr id="89" name=""/>
          <p:cNvSpPr/>
          <p:nvPr/>
        </p:nvSpPr>
        <p:spPr>
          <a:xfrm>
            <a:off x="457200" y="1219320"/>
            <a:ext cx="7772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mpio di buona prassi in altri ambiti </a:t>
            </a:r>
            <a:r>
              <a:rPr b="0" lang="en-US" sz="1600" spc="-1" strike="noStrike">
                <a:solidFill>
                  <a:srgbClr val="000000"/>
                </a:solidFill>
                <a:latin typeface="Times New Roman"/>
              </a:rPr>
              <a:t>(es. nasce la rete delle Referenti di parità della agenzie formativ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mpio di buona prassi sull’intero territorio nazionale </a:t>
            </a:r>
            <a:r>
              <a:rPr b="0" lang="en-US" sz="1600" spc="-1" strike="noStrike">
                <a:solidFill>
                  <a:srgbClr val="000000"/>
                </a:solidFill>
                <a:latin typeface="Times New Roman"/>
              </a:rPr>
              <a:t>(es. Regione Toscana e Regione Sicilia avviano un progetto per la creazione della rete a livello regiona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838080"/>
            <a:ext cx="8534520" cy="25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O 2007</a:t>
            </a:r>
            <a:r>
              <a:rPr b="0" lang="en-US" sz="1400" spc="-1" strike="noStrike">
                <a:solidFill>
                  <a:srgbClr val="000000"/>
                </a:solidFill>
                <a:latin typeface="Times New Roman"/>
                <a:ea typeface="Times New Roman"/>
              </a:rPr>
              <a:t> La Provincia ha seguito nell’ambito del Gruppo Operativo Locale (GOL) un laboratorio teatrale rivolto a 20 soggetti detenute, tutte donne rom. L’azione è la prosecuzione nel 2007, per il decimo anno consecutivo, del progetto “Oltre il muro”. A conclusione del percorso vi è stato uno spettacolo teatrale il 28 giugno 2007 dal titolo “Vacanze romen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NNI 2006-200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lizzazione di uno Spettacolo teatrale che ha coinvolto 20 detenute, di cui 10 soggetti italiane e 10 non comunitarie (alcune rom). L’Attività è stata realizzata da novembre 2006 a giugno 2007, con 40 incontri.</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boratorio teatrale con incontri settimanali all’interno di un carcere, in un padiglione femminile. Soggetti coinvolti:</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0 donne</a:t>
            </a:r>
            <a:r>
              <a:rPr b="1" lang="en-US"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Da novembre 2006  a giugno 2007 per un totale di circa 40 incont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228600" y="304920"/>
            <a:ext cx="8077320" cy="3373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ea typeface="Times New Roman"/>
              </a:rPr>
              <a:t>Attività di genere in ambito carcerario</a:t>
            </a:r>
            <a:endParaRPr b="0" lang="en-US" sz="1600" spc="-1" strike="noStrike">
              <a:solidFill>
                <a:srgbClr val="000000"/>
              </a:solidFill>
              <a:latin typeface="Times New Roman"/>
            </a:endParaRPr>
          </a:p>
        </p:txBody>
      </p:sp>
      <p:sp>
        <p:nvSpPr>
          <p:cNvPr id="92" name=""/>
          <p:cNvSpPr/>
          <p:nvPr/>
        </p:nvSpPr>
        <p:spPr>
          <a:xfrm>
            <a:off x="228600" y="4781520"/>
            <a:ext cx="8534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Teatro rende liberi” si colloca all’interno delle azioni  svolte per favorire e sostenere l’inserimento nel mercato del lavoro di soggetti deboli, a rischio esclusione sociale (ex detenuti). Il progetto svolto ha previsto la realizzazione di un corso di formazione per “tecnico teatrale” finalizzato a sviluppare competenze nell’ambito di tecnico luci / fonico, tecnico macchinista, attrezzista.</a:t>
            </a:r>
            <a:endParaRPr b="0" lang="en-US" sz="1400" spc="-1" strike="noStrike">
              <a:solidFill>
                <a:srgbClr val="000000"/>
              </a:solidFill>
              <a:latin typeface="Times New Roman"/>
            </a:endParaRPr>
          </a:p>
        </p:txBody>
      </p:sp>
      <p:sp>
        <p:nvSpPr>
          <p:cNvPr id="93" name=""/>
          <p:cNvSpPr/>
          <p:nvPr/>
        </p:nvSpPr>
        <p:spPr>
          <a:xfrm>
            <a:off x="228600" y="4172040"/>
            <a:ext cx="8077320" cy="337320"/>
          </a:xfrm>
          <a:prstGeom prst="rect">
            <a:avLst/>
          </a:prstGeom>
          <a:solidFill>
            <a:srgbClr val="ffffff"/>
          </a:solidFill>
          <a:ln w="9360">
            <a:solidFill>
              <a:srgbClr val="99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getto verso la scena (IL TEATRO RENDE LIB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cuni dati estratti dalla Banca regionale SILP e STAMPE SELETTIVE consentono di poter osservare quanto registrano i Centri per l’Impiego rispetto ad alcuni fenomeni del MdL quali il flusso dei/delle lavoratori/lavoratrici, gli avviamenti al lavor e altri fenomeni correlati. Questi dati sono consultabili sul sito della Provincia di Torino al seguente indirizzo: </a:t>
            </a:r>
            <a:r>
              <a:rPr b="0" lang="it-IT" sz="2800" spc="-1" strike="noStrike" u="sng">
                <a:solidFill>
                  <a:srgbClr val="ccccff"/>
                </a:solidFill>
                <a:uFillTx/>
                <a:latin typeface="Times New Roman"/>
                <a:hlinkClick r:id="rId1"/>
              </a:rPr>
              <a:t>http://www.provincia.torino.it/sportello-lavoro/centri_impiego/pubblicazioni/merca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 possono consultare in questa sezione dati pubblicati a partire dal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DISPONIBILI AL LAVORO ANNO 2005-2006-2007</a:t>
            </a:r>
            <a:br>
              <a:rPr sz="800"/>
            </a:br>
            <a:endParaRPr b="0" lang="en-US" sz="1600" spc="-1" strike="noStrike">
              <a:solidFill>
                <a:srgbClr val="000000"/>
              </a:solidFill>
              <a:latin typeface="Times New Roman"/>
            </a:endParaRPr>
          </a:p>
        </p:txBody>
      </p:sp>
      <p:graphicFrame>
        <p:nvGraphicFramePr>
          <p:cNvPr id="52" name=""/>
          <p:cNvGraphicFramePr/>
          <p:nvPr/>
        </p:nvGraphicFramePr>
        <p:xfrm>
          <a:off x="1116000" y="907920"/>
          <a:ext cx="6634080" cy="5791320"/>
        </p:xfrm>
        <a:graphic>
          <a:graphicData uri="http://schemas.openxmlformats.org/presentationml/2006/ole">
            <p:oleObj progId="Excel.Sheet.12" r:id="rId1" spid="">
              <p:embed/>
              <p:pic>
                <p:nvPicPr>
                  <p:cNvPr id="53" name="" descr=""/>
                  <p:cNvPicPr/>
                  <p:nvPr/>
                </p:nvPicPr>
                <p:blipFill>
                  <a:blip r:embed="rId2"/>
                  <a:stretch/>
                </p:blipFill>
                <p:spPr>
                  <a:xfrm>
                    <a:off x="1116000" y="907920"/>
                    <a:ext cx="66340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DISABILI DISPONIBILI AL LAVORO  ANNO 2005-2006-2007</a:t>
            </a:r>
            <a:br>
              <a:rPr sz="1600"/>
            </a:br>
            <a:endParaRPr b="0" lang="en-US" sz="1600" spc="-1" strike="noStrike">
              <a:solidFill>
                <a:srgbClr val="000000"/>
              </a:solidFill>
              <a:latin typeface="Times New Roman"/>
            </a:endParaRPr>
          </a:p>
        </p:txBody>
      </p:sp>
      <p:graphicFrame>
        <p:nvGraphicFramePr>
          <p:cNvPr id="55" name=""/>
          <p:cNvGraphicFramePr/>
          <p:nvPr/>
        </p:nvGraphicFramePr>
        <p:xfrm>
          <a:off x="971640" y="476280"/>
          <a:ext cx="7304040" cy="6087960"/>
        </p:xfrm>
        <a:graphic>
          <a:graphicData uri="http://schemas.openxmlformats.org/presentationml/2006/ole">
            <p:oleObj progId="Excel.Sheet.12" r:id="rId1" spid="">
              <p:embed/>
              <p:pic>
                <p:nvPicPr>
                  <p:cNvPr id="56" name="" descr=""/>
                  <p:cNvPicPr/>
                  <p:nvPr/>
                </p:nvPicPr>
                <p:blipFill>
                  <a:blip r:embed="rId2"/>
                  <a:stretch/>
                </p:blipFill>
                <p:spPr>
                  <a:xfrm>
                    <a:off x="971640" y="476280"/>
                    <a:ext cx="7304040" cy="60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VINCIA DI TORINO</a:t>
            </a:r>
            <a:br>
              <a:rPr sz="1600"/>
            </a:br>
            <a:r>
              <a:rPr b="0" lang="en-US" sz="1600" spc="-1" strike="noStrike">
                <a:solidFill>
                  <a:srgbClr val="000000"/>
                </a:solidFill>
                <a:latin typeface="Arial"/>
                <a:ea typeface="Arial"/>
              </a:rPr>
              <a:t>  </a:t>
            </a:r>
            <a:br>
              <a:rPr sz="1600"/>
            </a:br>
            <a:r>
              <a:rPr b="1" lang="en-US" sz="1600" spc="-1" strike="noStrike">
                <a:solidFill>
                  <a:srgbClr val="800000"/>
                </a:solidFill>
                <a:latin typeface="Arial"/>
                <a:ea typeface="Arial"/>
              </a:rPr>
              <a:t>COMPARAZIONE FLUSSO LAVORATORI NON COMUNITARI DISPONIBILI AL LAVORO  ANNO 2005-2006-2007</a:t>
            </a:r>
            <a:br>
              <a:rPr sz="1600"/>
            </a:br>
            <a:endParaRPr b="0" lang="en-US" sz="1600" spc="-1" strike="noStrike">
              <a:solidFill>
                <a:srgbClr val="000000"/>
              </a:solidFill>
              <a:latin typeface="Times New Roman"/>
            </a:endParaRPr>
          </a:p>
        </p:txBody>
      </p:sp>
      <p:graphicFrame>
        <p:nvGraphicFramePr>
          <p:cNvPr id="58" name=""/>
          <p:cNvGraphicFramePr/>
          <p:nvPr/>
        </p:nvGraphicFramePr>
        <p:xfrm>
          <a:off x="1447920" y="2286000"/>
          <a:ext cx="6243480" cy="3006720"/>
        </p:xfrm>
        <a:graphic>
          <a:graphicData uri="http://schemas.openxmlformats.org/presentationml/2006/ole">
            <p:oleObj progId="Excel.Sheet.12" r:id="rId1" spid="">
              <p:embed/>
              <p:pic>
                <p:nvPicPr>
                  <p:cNvPr id="59" name="" descr=""/>
                  <p:cNvPicPr/>
                  <p:nvPr/>
                </p:nvPicPr>
                <p:blipFill>
                  <a:blip r:embed="rId2"/>
                  <a:stretch/>
                </p:blipFill>
                <p:spPr>
                  <a:xfrm>
                    <a:off x="1447920" y="2286000"/>
                    <a:ext cx="624348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Principali nazionalità  dei cittadini non comunitari presenti nel flusso disponibili al lavoro</a:t>
            </a:r>
            <a:br>
              <a:rPr sz="1800"/>
            </a:br>
            <a:r>
              <a:rPr b="1" lang="en-US" sz="1800" spc="-1" strike="noStrike">
                <a:solidFill>
                  <a:srgbClr val="000000"/>
                </a:solidFill>
                <a:latin typeface="Times New Roman"/>
              </a:rPr>
              <a:t>ANNO 2007</a:t>
            </a:r>
            <a:endParaRPr b="0" lang="en-US" sz="1800" spc="-1" strike="noStrike">
              <a:solidFill>
                <a:srgbClr val="000000"/>
              </a:solidFill>
              <a:latin typeface="Times New Roman"/>
            </a:endParaRPr>
          </a:p>
        </p:txBody>
      </p:sp>
      <p:graphicFrame>
        <p:nvGraphicFramePr>
          <p:cNvPr id="61" name=""/>
          <p:cNvGraphicFramePr/>
          <p:nvPr/>
        </p:nvGraphicFramePr>
        <p:xfrm>
          <a:off x="609480" y="2216160"/>
          <a:ext cx="8018640" cy="3657600"/>
        </p:xfrm>
        <a:graphic>
          <a:graphicData uri="http://schemas.openxmlformats.org/presentationml/2006/ole">
            <p:oleObj progId="Excel.Sheet.12" r:id="rId1" spid="">
              <p:embed/>
              <p:pic>
                <p:nvPicPr>
                  <p:cNvPr id="62" name="" descr=""/>
                  <p:cNvPicPr/>
                  <p:nvPr/>
                </p:nvPicPr>
                <p:blipFill>
                  <a:blip r:embed="rId2"/>
                  <a:stretch/>
                </p:blipFill>
                <p:spPr>
                  <a:xfrm>
                    <a:off x="609480" y="2216160"/>
                    <a:ext cx="801864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AL LAVORO NELLA PROVINCIA DI TORINO </a:t>
            </a:r>
            <a:br>
              <a:rPr sz="1600"/>
            </a:br>
            <a:r>
              <a:rPr b="1" lang="en-US" sz="1600" spc="-1" strike="noStrike">
                <a:solidFill>
                  <a:srgbClr val="990000"/>
                </a:solidFill>
                <a:latin typeface="Times New Roman"/>
              </a:rPr>
              <a:t>2005-2006-2007</a:t>
            </a:r>
            <a:endParaRPr b="0" lang="en-US" sz="1600" spc="-1" strike="noStrike">
              <a:solidFill>
                <a:srgbClr val="000000"/>
              </a:solidFill>
              <a:latin typeface="Times New Roman"/>
            </a:endParaRPr>
          </a:p>
        </p:txBody>
      </p:sp>
      <p:graphicFrame>
        <p:nvGraphicFramePr>
          <p:cNvPr id="64" name=""/>
          <p:cNvGraphicFramePr/>
          <p:nvPr/>
        </p:nvGraphicFramePr>
        <p:xfrm>
          <a:off x="1187280" y="1844640"/>
          <a:ext cx="6905880" cy="2754360"/>
        </p:xfrm>
        <a:graphic>
          <a:graphicData uri="http://schemas.openxmlformats.org/presentationml/2006/ole">
            <p:oleObj progId="Excel.Sheet.12" r:id="rId1" spid="">
              <p:embed/>
              <p:pic>
                <p:nvPicPr>
                  <p:cNvPr id="65" name="" descr=""/>
                  <p:cNvPicPr/>
                  <p:nvPr/>
                </p:nvPicPr>
                <p:blipFill>
                  <a:blip r:embed="rId2"/>
                  <a:stretch/>
                </p:blipFill>
                <p:spPr>
                  <a:xfrm>
                    <a:off x="1187280" y="1844640"/>
                    <a:ext cx="6905880" cy="2754360"/>
                  </a:xfrm>
                  <a:prstGeom prst="rect">
                    <a:avLst/>
                  </a:prstGeom>
                  <a:ln w="0">
                    <a:noFill/>
                  </a:ln>
                </p:spPr>
              </p:pic>
            </p:oleObj>
          </a:graphicData>
        </a:graphic>
      </p:graphicFrame>
      <p:sp>
        <p:nvSpPr>
          <p:cNvPr id="66" name=""/>
          <p:cNvSpPr/>
          <p:nvPr/>
        </p:nvSpPr>
        <p:spPr>
          <a:xfrm>
            <a:off x="609480" y="5943600"/>
            <a:ext cx="7620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i dati sono riferiti agli avviamenti estratti per CPI Azienda. Le Aziende che hanno richiesto questi avviamenti al lavoro sono ubicate nel territorio dei CPI della Provincia di Torin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Settore Economico Avviamenti 2007</a:t>
            </a:r>
            <a:endParaRPr b="0" lang="en-US" sz="1600" spc="-1" strike="noStrike">
              <a:solidFill>
                <a:srgbClr val="000000"/>
              </a:solidFill>
              <a:latin typeface="Times New Roman"/>
            </a:endParaRPr>
          </a:p>
        </p:txBody>
      </p:sp>
      <p:graphicFrame>
        <p:nvGraphicFramePr>
          <p:cNvPr id="68" name=""/>
          <p:cNvGraphicFramePr/>
          <p:nvPr/>
        </p:nvGraphicFramePr>
        <p:xfrm>
          <a:off x="235080" y="692280"/>
          <a:ext cx="8697960" cy="5895720"/>
        </p:xfrm>
        <a:graphic>
          <a:graphicData uri="http://schemas.openxmlformats.org/presentationml/2006/ole">
            <p:oleObj progId="Excel.Sheet.12" r:id="rId1" spid="">
              <p:embed/>
              <p:pic>
                <p:nvPicPr>
                  <p:cNvPr id="69" name="" descr=""/>
                  <p:cNvPicPr/>
                  <p:nvPr/>
                </p:nvPicPr>
                <p:blipFill>
                  <a:blip r:embed="rId2"/>
                  <a:stretch/>
                </p:blipFill>
                <p:spPr>
                  <a:xfrm>
                    <a:off x="235080" y="692280"/>
                    <a:ext cx="8697960" cy="58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Avviamenti 2007</a:t>
            </a:r>
            <a:br>
              <a:rPr sz="1600"/>
            </a:br>
            <a:r>
              <a:rPr b="1" lang="en-US" sz="1600" spc="-1" strike="noStrike">
                <a:solidFill>
                  <a:srgbClr val="990000"/>
                </a:solidFill>
                <a:latin typeface="Times New Roman"/>
              </a:rPr>
              <a:t>Distribuzione per settore economico</a:t>
            </a:r>
            <a:endParaRPr b="0" lang="en-US" sz="1600" spc="-1" strike="noStrike">
              <a:solidFill>
                <a:srgbClr val="000000"/>
              </a:solidFill>
              <a:latin typeface="Times New Roman"/>
            </a:endParaRPr>
          </a:p>
        </p:txBody>
      </p:sp>
      <p:graphicFrame>
        <p:nvGraphicFramePr>
          <p:cNvPr id="71" name=""/>
          <p:cNvGraphicFramePr/>
          <p:nvPr/>
        </p:nvGraphicFramePr>
        <p:xfrm>
          <a:off x="996840" y="1301760"/>
          <a:ext cx="7032600" cy="4243320"/>
        </p:xfrm>
        <a:graphic>
          <a:graphicData uri="http://schemas.openxmlformats.org/presentationml/2006/ole">
            <p:oleObj progId="Excel.Sheet.12" r:id="rId1" spid="">
              <p:embed/>
              <p:pic>
                <p:nvPicPr>
                  <p:cNvPr id="72" name="" descr=""/>
                  <p:cNvPicPr/>
                  <p:nvPr/>
                </p:nvPicPr>
                <p:blipFill>
                  <a:blip r:embed="rId2"/>
                  <a:stretch/>
                </p:blipFill>
                <p:spPr>
                  <a:xfrm>
                    <a:off x="996840" y="1301760"/>
                    <a:ext cx="7032600" cy="42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5:36:55Z</dcterms:created>
  <dc:creator>provincia</dc:creator>
  <dc:description/>
  <dc:language>en-US</dc:language>
  <cp:lastModifiedBy>Roberta Dho</cp:lastModifiedBy>
  <dcterms:modified xsi:type="dcterms:W3CDTF">2008-12-16T13:51:50Z</dcterms:modified>
  <cp:revision>32</cp:revision>
  <dc:subject/>
  <dc:title>PROVINCIA DI TORINO   COMPARAZIONE FLUSSO DISPONIBILI AL LAVORO ANNO 2005-2006-2007 </dc:title>
</cp:coreProperties>
</file>