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EA6-EF36-474E-AFCB-7DEA4E9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AA2-C8E5-4724-B545-E51D808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B59-A0CB-4BA0-A257-21D35502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FE7-1C0D-4712-84D2-6EF215C0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ADD-E0F1-49B9-BA1B-F4FE28F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EA2-2894-476B-BA93-CF34106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1F0-6FFF-4391-A4A1-2E0CAE8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760-6871-4EEE-9364-EB44D61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59D-4E07-492C-9EF5-679F9A74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3EF-3E0B-4253-9250-3FCA475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6AB-923B-457B-AE68-4E8004D1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15B-3DA2-41F4-BCAF-74B8181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0F7-BDAA-4AA8-A2EB-254A050F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44280"/>
            <a:ext cx="2843280" cy="493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5440" y="1038240"/>
            <a:ext cx="5632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a managerialità femminile nei 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221000"/>
            <a:ext cx="7705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Il campione viene elaborato in modo da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convertire l’informazione orientata agli scopi gestionali dell’Inps in informazione adatta ad indagini di tipo statistico-economico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7705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Database WHIP (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</a:rPr>
              <a:t>Work Histories Italian Panel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) costituito sulla base degli archivi amministrativi dell’Inps, dai quali viene estratto un ampio campione casuale di lavoratori dip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oluzione anni 1996 -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7160" y="1413000"/>
            <a:ext cx="85928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ota anni 1996 -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442880"/>
            <a:ext cx="87850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628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tribuzione per settore – an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557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ad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557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ig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88567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42920" y="590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nn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tribuzione per area geografica – anno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6034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ad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6034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ig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60" y="2205000"/>
            <a:ext cx="8940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26:58Z</dcterms:created>
  <dc:creator>ROBERTINO</dc:creator>
  <dc:description/>
  <dc:language>en-US</dc:language>
  <cp:lastModifiedBy>Roberta Dho</cp:lastModifiedBy>
  <dcterms:modified xsi:type="dcterms:W3CDTF">2008-03-03T14:26:46Z</dcterms:modified>
  <cp:revision>8</cp:revision>
  <dc:subject/>
  <dc:title>Diapositiva 1</dc:title>
</cp:coreProperties>
</file>