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7BB-123C-49A8-8765-B12B797D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1ED-A467-49E2-828B-8937E6DE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EB6-F7BE-438B-8446-66A8AA35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23A-3879-4AFD-9207-AB85215D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3CA-9488-41AE-8ED7-24640B2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89A-127E-4E3A-B4C3-EF32E5A3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607-501C-436A-A90C-761F920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DA8-D670-4008-BE7F-1D112DCF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AB7-145B-4F50-9874-9E5AE00C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671-5405-42CD-AFCC-E4905448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AE2-EA25-4ED7-B998-BAF9E1A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4A5-A9D9-4F44-92F7-88DAFE0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452-CCC8-47BD-A4A6-1A6DAE1B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44280"/>
            <a:ext cx="2843280" cy="493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5440" y="1038240"/>
            <a:ext cx="5632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a managerialità femminile nei 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221000"/>
            <a:ext cx="7705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Il campione viene elaborato in modo da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convertire l’informazione orientata agli scopi gestionali dell’Inps in informazione adatta ad indagini di tipo statistico-economico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7705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Database WHIP (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</a:rPr>
              <a:t>Work Histories Italian Panel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) costituito sulla base degli archivi amministrativi dell’Inps, dai quali viene estratto un ampio campione casuale di lavoratori dip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oluzione anni 1996 -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7160" y="1413000"/>
            <a:ext cx="85928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ota anni 1996 -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442880"/>
            <a:ext cx="87850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628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tribuzione per settore – an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557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ad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557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ig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88567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tribuzione per area geografica – an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6034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ad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6034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ig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60" y="2205000"/>
            <a:ext cx="8940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26:58Z</dcterms:created>
  <dc:creator>ROBERTINO</dc:creator>
  <dc:description/>
  <dc:language>en-US</dc:language>
  <cp:lastModifiedBy>Roberta Dho</cp:lastModifiedBy>
  <dcterms:modified xsi:type="dcterms:W3CDTF">2008-03-03T14:26:46Z</dcterms:modified>
  <cp:revision>8</cp:revision>
  <dc:subject/>
  <dc:title>Diapositiva 1</dc:title>
</cp:coreProperties>
</file>